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22C0B-9CC0-4E3B-BE0C-EDEA1E07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79621-00D1-45B2-982C-56D6B560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4E3C3-C1C6-46E8-8BBF-69BA4939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34D0-7F41-4B61-B49E-77C73AB6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856E-ABA4-4AF4-872A-C128DC74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48C6-9A21-4A63-9EC3-F623BBEA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4A61-6D7E-4BF3-B63F-C3628845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43DA-D758-4FB0-8FF2-AEC27F76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333C-B706-431D-B29C-D9A565B0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15B6-ECC7-47E3-A594-D594C914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18F9-BF39-463E-AF5D-67DA7513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F8A13-88AE-4FE1-810E-D4A722C0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0390-C1B4-45E6-92BA-D6F52FC2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AD2A-91E3-44BA-AE4D-D9B8DBE2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F72D-0387-4C24-A47D-FC196D0D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E4C9-BA38-4129-B075-B52837FF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DB85-9AA5-4E67-A574-AF5DDEDC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1CA44-3DD4-4BF8-BE46-D48EBBB6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4B6AC-4025-4BA3-B9A0-F356A84C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588CC-4B9D-4DA4-BBB9-62B00E37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7554F-6DD0-4FDF-911E-D0184ABF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7B1E-E7E0-46CF-A77A-D202AB1A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6249B-8188-4119-8E62-565751A6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EAE7-C1E6-4D6E-A0B6-FCCE2A23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C8B5-9D26-4A89-BB60-E066462A4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41E1-2A32-483E-8EF8-A8EE7203E5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otation Marks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Lola has been telling me for years that s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ants to leave her job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Lola has been telling me “for years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he wants to leave her job.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Lola has been telling me for years, “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he wants to leave her job.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Lola has been telling me for years that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he wants to leave her job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Lola has been telling me “for years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he wants to leave her job.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Lola has been telling me for years, “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he wants to leave her job.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“What do you mean by “min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cedure,” doctor?” asked the patien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‘What do you mean by “min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cedure,” doctor?’ asked the patien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“What do you mean by ‘min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cedure,’ doctor?” asked the patien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“What do you mean by “minor procedure,”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ctor?” asked the patien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‘What do you mean by “minor procedure,”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ctor?’ asked the patien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“What do you mean by ‘minor procedure,’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octor?” asked the patien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 film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Stand by M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was based o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ephen King’s short story The Bod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 film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Stand by M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was based o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ephen King’s short story “The Body.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 film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Stand by M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was based o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ephen King’s short story ‘The Body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The film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and by M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as based on Stephe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ing’s short story The Bod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The film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Stand by Me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was based on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tephen King’s short story “The Body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he film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and by M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as based on Stephe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ing’s short story ‘The Body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“‘Piano Man’ may be the most annoying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ng in history,” said Benit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“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iano Ma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” “may be the most annoying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ng in history” said Benit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Piano Man may be the most annoying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ng in history, said Benit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“‘Piano Man’ may be the most annoying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ong in history,” said Benit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iano M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” “may be the most annoying song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history” said Benit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Piano Man may be the most annoying song i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story, said Benit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have read “the Bible” and “the Koran,”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Jonas sai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Jonas said that he has read the Bible an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Kora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Jonas said that “he has read the Bible an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Koran.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have read “the Bible” and “the Koran,”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Jonas sai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Jonas said that he has read the Bibl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nd the Kora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Jonas said that “he has read the Bible an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Koran.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are quotation mark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238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otation mark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used aroun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irect quotation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someone’s speech or writing repeated exactly, word for wor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IRECT QUOTA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elen asked, “Can I borrow your car?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otation marks are not used aroun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direct quotation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restatements of what someone said or wrote, not word for wor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DIRECT QUOTA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elen asked to borrow my ca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re’s an essay about The Godfathe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lms in this week’s New York Time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re’s an essay about The Godfathe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lms in this week’s “New York Times.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re’s an essay about “The Godfathe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lms” in this week’s New York Tim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There’s an essay about The Godfather films i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week’s New York Tim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There’s an essay about The Godfather films i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week’s “New York Times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here’s an essay about “The Godfather films”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is week’s New York Ti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) none of the above; the correct revision is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There’s an essay about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The Godfather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films in this week’s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New York Times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rrors 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Mr. Rivera said that he “has read all of th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rry Potter books except for Harry Potter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he Deathly Hallows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Mr. Rivera said that he “has read all of th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rry Potter books except f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rry Potter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nd the Deathly Hallow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Mr. Rivera said that he has read all of the Harr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tter books except f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rry Potter and th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athly Hallow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rrors 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Mr. Rivera said that he “has read all of the Harr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tter books except for Harry Potter and th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athly Hallows.”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Mr. Rivera said that he “has read all of the Harr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tter books except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Harry Potter and th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athly Hallow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C) Mr. Rivera said that he has read all of the Harry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otter books except for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Harry Potter and th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Deathly Hallows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referring to a short work such as a magazine or newspaper article, a chapter in a book, a short story, an essay, a song, or a poem, put quotation marks around the title of the wor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ually, the titles of longer works are underlined or italiciz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See your textbook for more specific rules and examples for using quotation marks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y sister told me “that I must see t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vi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y sister told me that I must see t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vi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y sister told me that I, “Must see t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vi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y sister told me “that I must see t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vi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My sister told me that I must see this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movi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y sister told me that I, “Must see t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vi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“Sorry, no backpacks allowed,” said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urity gua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“Sorry, no backpacks allowed” said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urity gua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Sorry, no backpacks allowed said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urity gua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“Sorry, no backpacks allowed,” said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he security gua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“Sorry, no backpacks allowed” said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urity gua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Sorry, no backpacks allowed said th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urity guar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“A little learning wrote Alexander Pope 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 dangerous thing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“A little learning wrote Alexander Pope,”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a dangerous th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“A little learning,” wrote Alexander Pope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“is a dangerous thing.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quotation mark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“A little learning wrote Alexander Pope 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 dangerous thing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“A little learning wrote Alexander Pope,”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a dangerous th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“A little learning,” wrote Alexander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Pope, “is a dangerous thing.”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20:53:06Z</dcterms:modified>
  <cp:revision>169</cp:revision>
  <dc:subject/>
  <dc:title>Sentence Fragments</dc:title>
</cp:coreProperties>
</file>